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b6fd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2519-FAB0-4D53-BEE0-45166B6D30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D7E4-D0CF-48F1-96E5-EBADB15389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B68B-B509-432F-AC23-2692B068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3D7C-99E9-425F-9D41-18874F91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C966-7C0B-4BEE-A869-59E2493D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8D23-E420-48E5-88B6-E6D7AB65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B732-8468-4C8C-B723-8CC920EC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AD42-3B13-4C77-B5C0-3746E216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0CB9-8B60-4804-B2D8-85D38F9E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FE4A-08E9-4FCE-8563-7FE74AB2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CCDD-CBB6-458E-AAF8-59A11CBA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3C22-A848-42F4-8680-35859B1E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53ED-EBD5-4263-B288-E199B4C5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862E-A611-4498-A740-98EC830F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2546-0ABF-435A-A8A8-A1D92FAE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BE14-7498-4510-B8BC-9921D8B1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E105-A333-49EA-9798-F79C3F5E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9D18-F7A4-4682-BE11-7DCFF342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5F3F-9204-4167-9937-7F0E3691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33BA8-0D71-443C-AD91-0CE575FA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79F55-F9AA-48FF-9491-EF471431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8DB4C-40D9-485C-822A-0DA5821B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0870E-52C7-47B9-B776-FFBA225C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222BB-6FAB-4DDB-8142-819EA78E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DCE3-D417-4A3C-8DF6-B020174C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359F3-4774-4316-AF01-D712914E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DD3FA-E531-4467-957F-C11504FB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39806-59E6-4760-A745-F778ED95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C78EF-F2F3-463E-8692-1A6DF635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C7ACA-A05E-4F94-9E06-BA357127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71604-8592-4F5E-A72C-73DDB6AA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1FEF4-6996-44C2-8318-453A334A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2A103-5AA0-4CD4-8EC2-B7E1D5A4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C4D0D-050E-47EC-889B-8A490F91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E52E4-E54E-457A-A7D9-38AB1796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314D-6905-4D53-B3FD-AD09DE4B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EF5A5-0A8F-4613-9ADD-ED2A38EA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E4DAB-8170-4325-997B-5B1BE55E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39C0A-5124-4B3B-878E-B7CB2815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DEC88-08E8-4756-B77D-5C5433B8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570BE-76A3-4D0F-874F-8CF28F01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6C0E8-FA94-4C55-819A-B7ADD8F0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B3D2B-F6A0-423A-9456-F641509D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9C25E-8EB6-4E88-A2F2-78FCBBB0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A1A6A-44F0-404A-A6C4-11E53AD9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BEE7-4A73-4211-B968-B27E3285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E462-910B-4F92-A1C6-DE023E1C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A9F8-6F53-49AF-B94A-8D322004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85E-002F-47A1-B165-2E15A518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1378-F77D-40F2-96A2-00A68D2B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af7"/>
            </a:gs>
            <a:gs pos="100000">
              <a:srgbClr val="608d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0b87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b6fd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1F15-6F71-4F5E-9013-EDE36CD77245}" type="slidenum">
              <a:rPr b="0" lang="fr-FR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af7"/>
            </a:gs>
            <a:gs pos="100000">
              <a:srgbClr val="608d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b87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b6fd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31b6fd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1CC4-8ED1-4443-9D8D-752B01051EB5}" type="slidenum">
              <a:rPr b="0" lang="fr-FR" sz="1200" spc="-1" strike="noStrike">
                <a:solidFill>
                  <a:srgbClr val="31b6fd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af7"/>
            </a:gs>
            <a:gs pos="100000">
              <a:srgbClr val="608d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b87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b6fd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0E99-89C7-40D7-BF44-66C9595C1026}" type="slidenum">
              <a:rPr b="0" lang="fr-FR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af7"/>
            </a:gs>
            <a:gs pos="100000">
              <a:srgbClr val="608d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b87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31f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b6fd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31b6fd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31b6fd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E2C6-E64C-4C4D-8F8C-AEBA78D6F3CE}" type="slidenum">
              <a:rPr b="0" lang="fr-FR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hyperlink" Target="http://fr.wikipedia.org/wiki/Fichier:Sc_2.jpg" TargetMode="Externa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fr.wikipedia.org/wiki/Fichier:St1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hyperlink" Target="http://fr.wikipedia.org/wiki/Fichier:Cumulus_clouds_in_fair_weather.jpeg" TargetMode="External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hyperlink" Target="http://fr.wikipedia.org/wiki/Fichier:Cirrus_over_Warsaw,_June_26,_2005.jpg" TargetMode="External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http://fr.wikipedia.org/wiki/Fichier:Cirrocumulus_to_Altocumulus.JPG" TargetMode="External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hyperlink" Target="http://fr.wikipedia.org/wiki/Fichier:Close_Cirrostratus_stratiformis.JPG" TargetMode="External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hyperlink" Target="http://fr.wikipedia.org/wiki/Fichier:Altocumulus1.jpg" TargetMode="External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hyperlink" Target="http://fr.wikipedia.org/wiki/Fichier:As_1.jpg" TargetMode="External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re 1" descr=""/>
          <p:cNvPicPr/>
          <p:nvPr/>
        </p:nvPicPr>
        <p:blipFill>
          <a:blip r:embed="rId1"/>
          <a:stretch/>
        </p:blipFill>
        <p:spPr>
          <a:xfrm>
            <a:off x="4657680" y="2487600"/>
            <a:ext cx="3718080" cy="265104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re 1" descr=""/>
          <p:cNvPicPr/>
          <p:nvPr/>
        </p:nvPicPr>
        <p:blipFill>
          <a:blip r:embed="rId1"/>
          <a:stretch/>
        </p:blipFill>
        <p:spPr>
          <a:xfrm>
            <a:off x="4591080" y="689040"/>
            <a:ext cx="3430440" cy="14745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716360" y="2781000"/>
            <a:ext cx="33004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242"/>
                </a:solidFill>
                <a:latin typeface="Comic Sans MS"/>
              </a:rPr>
              <a:t>He produces an immediate threat of bad weather, a few drops of heavy rain. Preceding a cold front, it will cause storms and high winds. He starts the ground to 2000m.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</p:txBody>
      </p:sp>
      <p:pic>
        <p:nvPicPr>
          <p:cNvPr id="370" name="Picture 2" descr="Fichier:Sc 2.jpg"/>
          <p:cNvPicPr/>
          <p:nvPr/>
        </p:nvPicPr>
        <p:blipFill>
          <a:blip r:embed="rId2"/>
          <a:srcRect l="26968" t="0" r="26968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71" name="ZoneTexte 4"/>
          <p:cNvSpPr/>
          <p:nvPr/>
        </p:nvSpPr>
        <p:spPr>
          <a:xfrm>
            <a:off x="4677480" y="5843520"/>
            <a:ext cx="2232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0080ff"/>
                </a:solidFill>
                <a:uFillTx/>
                <a:latin typeface="Century Gothic"/>
                <a:hlinkClick r:id="rId3"/>
              </a:rPr>
              <a:t>http://fr.wikipedia.org/wiki/Fichier:Sc_2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re 1" descr=""/>
          <p:cNvPicPr/>
          <p:nvPr/>
        </p:nvPicPr>
        <p:blipFill>
          <a:blip r:embed="rId1"/>
          <a:stretch/>
        </p:blipFill>
        <p:spPr>
          <a:xfrm>
            <a:off x="4572000" y="689040"/>
            <a:ext cx="3449520" cy="14875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716000" y="2924280"/>
            <a:ext cx="3240360" cy="15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242"/>
                </a:solidFill>
                <a:latin typeface="Comic Sans MS"/>
              </a:rPr>
              <a:t>He produces heavy rains and cloudy skies.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242"/>
                </a:solidFill>
                <a:latin typeface="Comic Sans MS"/>
              </a:rPr>
              <a:t>He starts the ground to 1500m.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74" name="ZoneTexte 4"/>
          <p:cNvSpPr/>
          <p:nvPr/>
        </p:nvSpPr>
        <p:spPr>
          <a:xfrm>
            <a:off x="4665240" y="5877000"/>
            <a:ext cx="21740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80ff"/>
                </a:solidFill>
                <a:uFillTx/>
                <a:latin typeface="Century Gothic"/>
                <a:hlinkClick r:id="rId2"/>
              </a:rPr>
              <a:t>http://fr.wikipedia.org/wiki/Fichier:St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Fichier:St1.jpg"/>
          <p:cNvPicPr/>
          <p:nvPr/>
        </p:nvPicPr>
        <p:blipFill>
          <a:blip r:embed="rId3"/>
          <a:srcRect l="26803" t="0" r="26803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</p:spTree>
  </p:cSld>
  <p:transition advTm="15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re 1" descr=""/>
          <p:cNvPicPr/>
          <p:nvPr/>
        </p:nvPicPr>
        <p:blipFill>
          <a:blip r:embed="rId1"/>
          <a:stretch/>
        </p:blipFill>
        <p:spPr>
          <a:xfrm>
            <a:off x="4591080" y="689040"/>
            <a:ext cx="3430440" cy="147456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716360" y="2781360"/>
            <a:ext cx="33004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424242"/>
                </a:solidFill>
                <a:latin typeface="Comic Sans MS"/>
              </a:rPr>
              <a:t>It </a:t>
            </a:r>
            <a:r>
              <a:rPr b="0" lang="en-GB" sz="1500" spc="-1" strike="noStrike">
                <a:solidFill>
                  <a:srgbClr val="424242"/>
                </a:solidFill>
                <a:latin typeface="Comic Sans MS"/>
              </a:rPr>
              <a:t>means that the good weather arrives. It is rarely seen in winter.</a:t>
            </a:r>
            <a:br>
              <a:rPr sz="1500"/>
            </a:br>
            <a:r>
              <a:rPr b="0" lang="en-GB" sz="1500" spc="-1" strike="noStrike">
                <a:solidFill>
                  <a:srgbClr val="424242"/>
                </a:solidFill>
                <a:latin typeface="Comic Sans MS"/>
              </a:rPr>
              <a:t>He has a mass of from 1000 to 2000 tons of water. We can found it between 500m and 1200m of the Earth.</a:t>
            </a:r>
            <a:endParaRPr b="0" lang="en-US" sz="1500" spc="-1" strike="noStrike">
              <a:solidFill>
                <a:srgbClr val="073e87"/>
              </a:solidFill>
              <a:latin typeface="Century Gothic"/>
            </a:endParaRPr>
          </a:p>
        </p:txBody>
      </p:sp>
      <p:pic>
        <p:nvPicPr>
          <p:cNvPr id="378" name="Picture 2" descr="Fichier:Cumulus clouds in fair weather.jpeg"/>
          <p:cNvPicPr/>
          <p:nvPr/>
        </p:nvPicPr>
        <p:blipFill>
          <a:blip r:embed="rId2"/>
          <a:srcRect l="26968" t="0" r="26968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79" name="ZoneTexte 4"/>
          <p:cNvSpPr/>
          <p:nvPr/>
        </p:nvSpPr>
        <p:spPr>
          <a:xfrm>
            <a:off x="4500720" y="5840280"/>
            <a:ext cx="38876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0080ff"/>
                </a:solidFill>
                <a:uFillTx/>
                <a:latin typeface="Century Gothic"/>
                <a:hlinkClick r:id="rId3"/>
              </a:rPr>
              <a:t>http://fr.wikipedia.org/wiki/Fichier:Cumulus_clouds_in_fair_weather.jpe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re 1" descr=""/>
          <p:cNvPicPr/>
          <p:nvPr/>
        </p:nvPicPr>
        <p:blipFill>
          <a:blip r:embed="rId1"/>
          <a:stretch/>
        </p:blipFill>
        <p:spPr>
          <a:xfrm>
            <a:off x="4591080" y="689040"/>
            <a:ext cx="3430440" cy="14745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608000" y="2852640"/>
            <a:ext cx="352764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242"/>
                </a:solidFill>
                <a:latin typeface="Comic Sans MS"/>
              </a:rPr>
              <a:t>This is a cloud of rain and snow between 500 m and 5500 m.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</p:txBody>
      </p:sp>
      <p:pic>
        <p:nvPicPr>
          <p:cNvPr id="382" name="Picture 2" descr="Fichier:Ns1.jpg"/>
          <p:cNvPicPr/>
          <p:nvPr/>
        </p:nvPicPr>
        <p:blipFill>
          <a:blip r:embed="rId2"/>
          <a:srcRect l="26968" t="0" r="26968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5"/>
          <p:cNvSpPr/>
          <p:nvPr/>
        </p:nvSpPr>
        <p:spPr>
          <a:xfrm>
            <a:off x="4608360" y="5877000"/>
            <a:ext cx="248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http://fr.wikipedia.org/wiki/Fichier:Ns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re 1" descr=""/>
          <p:cNvPicPr/>
          <p:nvPr/>
        </p:nvPicPr>
        <p:blipFill>
          <a:blip r:embed="rId1"/>
          <a:stretch/>
        </p:blipFill>
        <p:spPr>
          <a:xfrm>
            <a:off x="4572000" y="689040"/>
            <a:ext cx="3449520" cy="147456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716360" y="2781360"/>
            <a:ext cx="33004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242"/>
                </a:solidFill>
                <a:latin typeface="Comic Sans MS"/>
              </a:rPr>
              <a:t>It is called the cloud of thunder, located between 500 m and 9500 m.</a:t>
            </a:r>
            <a:br>
              <a:rPr sz="1800"/>
            </a:br>
            <a:r>
              <a:rPr b="0" lang="en-GB" sz="1800" spc="-1" strike="noStrike">
                <a:solidFill>
                  <a:srgbClr val="424242"/>
                </a:solidFill>
                <a:latin typeface="Comic Sans MS"/>
              </a:rPr>
              <a:t>He can hold up to 300,000 tons of water.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</p:txBody>
      </p:sp>
      <p:pic>
        <p:nvPicPr>
          <p:cNvPr id="386" name="Picture 2" descr="Fichier:Cumulonimbus-tav.jpg"/>
          <p:cNvPicPr/>
          <p:nvPr/>
        </p:nvPicPr>
        <p:blipFill>
          <a:blip r:embed="rId2"/>
          <a:srcRect l="29630" t="0" r="29630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4"/>
          <p:cNvSpPr/>
          <p:nvPr/>
        </p:nvSpPr>
        <p:spPr>
          <a:xfrm>
            <a:off x="4572000" y="5877000"/>
            <a:ext cx="30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http://fr.wikipedia.org/wiki/Fichier:Cumulonimbus-tav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re 1" descr=""/>
          <p:cNvPicPr/>
          <p:nvPr/>
        </p:nvPicPr>
        <p:blipFill>
          <a:blip r:embed="rId1"/>
          <a:stretch/>
        </p:blipFill>
        <p:spPr>
          <a:xfrm>
            <a:off x="4565520" y="689040"/>
            <a:ext cx="3456000" cy="14745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716360" y="2852640"/>
            <a:ext cx="33004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242"/>
                </a:solidFill>
                <a:latin typeface="Comic Sans MS"/>
              </a:rPr>
              <a:t>These clouds form when crossing the terrain with a stream of air strong enough and stable. Is formed over the mountains.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</p:txBody>
      </p:sp>
      <p:pic>
        <p:nvPicPr>
          <p:cNvPr id="390" name="Picture 4" descr="http://www.wingroover.com/images/nuage_orographique.jpg"/>
          <p:cNvPicPr/>
          <p:nvPr/>
        </p:nvPicPr>
        <p:blipFill>
          <a:blip r:embed="rId2"/>
          <a:srcRect l="26971" t="0" r="26971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5"/>
          <p:cNvSpPr/>
          <p:nvPr/>
        </p:nvSpPr>
        <p:spPr>
          <a:xfrm>
            <a:off x="4716360" y="5877000"/>
            <a:ext cx="244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http://www.wingroover.com/nuages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re 4" descr=""/>
          <p:cNvPicPr/>
          <p:nvPr/>
        </p:nvPicPr>
        <p:blipFill>
          <a:blip r:embed="rId1"/>
          <a:stretch/>
        </p:blipFill>
        <p:spPr>
          <a:xfrm>
            <a:off x="762120" y="689040"/>
            <a:ext cx="7272360" cy="1676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6397560" cy="404640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7"/>
          <p:cNvSpPr/>
          <p:nvPr/>
        </p:nvSpPr>
        <p:spPr>
          <a:xfrm>
            <a:off x="3526200" y="6305400"/>
            <a:ext cx="21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http://www.wingroover.com/nuages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1258920" y="1052640"/>
          <a:ext cx="6777000" cy="4870440"/>
        </p:xfrm>
        <a:graphic>
          <a:graphicData uri="http://schemas.openxmlformats.org/drawingml/2006/table">
            <a:tbl>
              <a:tblPr/>
              <a:tblGrid>
                <a:gridCol w="2259000"/>
                <a:gridCol w="2259000"/>
                <a:gridCol w="225900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anç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ngla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spag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b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43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mosphè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mosp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mosf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den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den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densac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u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luv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443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rm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i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no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441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r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r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r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rrostr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rrostr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rroestra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ograph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ograph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ográf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43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396" name="ZoneTexte 2"/>
          <p:cNvSpPr/>
          <p:nvPr/>
        </p:nvSpPr>
        <p:spPr>
          <a:xfrm>
            <a:off x="5733000" y="602136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83f4"/>
                </a:solidFill>
                <a:latin typeface="Comic Sans MS"/>
              </a:rPr>
              <a:t>By Toxic Clo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re 1" descr=""/>
          <p:cNvPicPr/>
          <p:nvPr/>
        </p:nvPicPr>
        <p:blipFill>
          <a:blip r:embed="rId1"/>
          <a:stretch/>
        </p:blipFill>
        <p:spPr>
          <a:xfrm>
            <a:off x="706320" y="901800"/>
            <a:ext cx="7656480" cy="16761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1042560" y="2324160"/>
            <a:ext cx="67770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7680" algn="just">
              <a:lnSpc>
                <a:spcPct val="105000"/>
              </a:lnSpc>
              <a:spcBef>
                <a:spcPts val="499"/>
              </a:spcBef>
              <a:buClr>
                <a:srgbClr val="31b6fd"/>
              </a:buClr>
              <a:buSzPct val="76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omic Sans MS"/>
              </a:rPr>
              <a:t>The clouds are formed by cooling a volume of air, which causes condensation of part of his steam. If the cooling action occurs on the ground, we can see some fog. </a:t>
            </a:r>
            <a:endParaRPr b="0" lang="en-US" sz="2000" spc="-1" strike="noStrike">
              <a:solidFill>
                <a:srgbClr val="073e87"/>
              </a:solidFill>
              <a:latin typeface="Century Gothic"/>
            </a:endParaRPr>
          </a:p>
          <a:p>
            <a:pPr marL="67680" algn="just">
              <a:lnSpc>
                <a:spcPct val="105000"/>
              </a:lnSpc>
              <a:spcBef>
                <a:spcPts val="499"/>
              </a:spcBef>
              <a:buClr>
                <a:srgbClr val="31b6fd"/>
              </a:buClr>
              <a:buSzPct val="76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omic Sans MS"/>
              </a:rPr>
              <a:t>The clouds go away when the warming allows droplets or ice crystals evaporation, or when we have some precipitations (rain, hail or snow).</a:t>
            </a:r>
            <a:endParaRPr b="0" lang="en-US" sz="2000" spc="-1" strike="noStrike">
              <a:solidFill>
                <a:srgbClr val="073e87"/>
              </a:solidFill>
              <a:latin typeface="Century Gothic"/>
            </a:endParaRPr>
          </a:p>
          <a:p>
            <a:pPr marL="67680" algn="just">
              <a:lnSpc>
                <a:spcPct val="105000"/>
              </a:lnSpc>
              <a:spcBef>
                <a:spcPts val="499"/>
              </a:spcBef>
              <a:buClr>
                <a:srgbClr val="31b6fd"/>
              </a:buClr>
              <a:buSzPct val="76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omic Sans MS"/>
              </a:rPr>
              <a:t>The cloud aspect depends of the light that it receives, of the nature, size, number and distribution of the particles that constitutes it.</a:t>
            </a:r>
            <a:endParaRPr b="0" lang="en-US" sz="2000" spc="-1" strike="noStrike">
              <a:solidFill>
                <a:srgbClr val="073e87"/>
              </a:solidFill>
              <a:latin typeface="Century Gothic"/>
            </a:endParaRPr>
          </a:p>
          <a:p>
            <a:pPr marL="67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entury Gothic"/>
            </a:endParaRPr>
          </a:p>
        </p:txBody>
      </p:sp>
    </p:spTree>
  </p:cSld>
  <p:transition advTm="3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42920" y="1557000"/>
            <a:ext cx="6778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omic Sans MS"/>
              </a:rPr>
              <a:t>A cloud can weigh millions of tons! But its density is lower than that of air, which is why it floats.</a:t>
            </a:r>
            <a:endParaRPr b="0" lang="en-US" sz="22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73e87"/>
                </a:solidFill>
                <a:uFillTx/>
                <a:latin typeface="Comic Sans MS"/>
              </a:rPr>
              <a:t>All clouds have differences: </a:t>
            </a:r>
            <a:endParaRPr b="0" lang="en-US" sz="22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omic Sans MS"/>
              </a:rPr>
              <a:t>The weight</a:t>
            </a:r>
            <a:endParaRPr b="0" lang="en-US" sz="22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omic Sans MS"/>
              </a:rPr>
              <a:t>The altitude</a:t>
            </a:r>
            <a:endParaRPr b="0" lang="en-US" sz="22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omic Sans MS"/>
              </a:rPr>
              <a:t>The nature (rain, clouds ...) </a:t>
            </a:r>
            <a:endParaRPr b="0" lang="en-US" sz="22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omic Sans MS"/>
              </a:rPr>
              <a:t>The size -the form</a:t>
            </a:r>
            <a:endParaRPr b="0" lang="en-US" sz="2200" spc="-1" strike="noStrike">
              <a:solidFill>
                <a:srgbClr val="073e87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entury Gothic"/>
            </a:endParaRPr>
          </a:p>
        </p:txBody>
      </p:sp>
    </p:spTree>
  </p:cSld>
  <p:transition advTm="22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re 1" descr=""/>
          <p:cNvPicPr/>
          <p:nvPr/>
        </p:nvPicPr>
        <p:blipFill>
          <a:blip r:embed="rId1"/>
          <a:stretch/>
        </p:blipFill>
        <p:spPr>
          <a:xfrm>
            <a:off x="798480" y="828720"/>
            <a:ext cx="7278840" cy="16826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mic Sans MS"/>
              </a:rPr>
              <a:t>There are four main families of clouds: 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mic Sans MS"/>
              </a:rPr>
              <a:t>High clouds 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mic Sans MS"/>
              </a:rPr>
              <a:t>The medium clouds   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mic Sans MS"/>
              </a:rPr>
              <a:t>Low clouds 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omic Sans MS"/>
              </a:rPr>
              <a:t>The cloud vertical extensions.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73e87"/>
                </a:solidFill>
                <a:latin typeface="Comic Sans MS"/>
              </a:rPr>
              <a:t>But there are some other clouds very special that we cannot found everywhere.</a:t>
            </a: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entury Gothic"/>
            </a:endParaRPr>
          </a:p>
        </p:txBody>
      </p:sp>
    </p:spTree>
  </p:cSld>
  <p:transition advTm="22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re 1" descr=""/>
          <p:cNvPicPr/>
          <p:nvPr/>
        </p:nvPicPr>
        <p:blipFill>
          <a:blip r:embed="rId1"/>
          <a:stretch/>
        </p:blipFill>
        <p:spPr>
          <a:xfrm>
            <a:off x="4578480" y="689040"/>
            <a:ext cx="3443040" cy="148104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4716360" y="3212640"/>
            <a:ext cx="330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omic Sans MS"/>
              </a:rPr>
              <a:t>This cloud produces rain and wind in 24 hours. We can found it between 11 000 m and 13 000 m of the earth. It weights approximately 200 tones.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</p:txBody>
      </p:sp>
      <p:pic>
        <p:nvPicPr>
          <p:cNvPr id="350" name="Picture 2" descr="Fichier:Cirrus over Warsaw, June 26, 2005.jpg"/>
          <p:cNvPicPr/>
          <p:nvPr/>
        </p:nvPicPr>
        <p:blipFill>
          <a:blip r:embed="rId2"/>
          <a:srcRect l="26969" t="0" r="26969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51" name="ZoneTexte 5"/>
          <p:cNvSpPr/>
          <p:nvPr/>
        </p:nvSpPr>
        <p:spPr>
          <a:xfrm>
            <a:off x="4572000" y="5732640"/>
            <a:ext cx="36003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0080ff"/>
                </a:solidFill>
                <a:uFillTx/>
                <a:latin typeface="Century Gothic"/>
                <a:hlinkClick r:id="rId3"/>
              </a:rPr>
              <a:t>http://fr.wikipedia.org/wiki/Fichier:Cirrus_over_Warsaw,_June_26,_2005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re 1" descr=""/>
          <p:cNvPicPr/>
          <p:nvPr/>
        </p:nvPicPr>
        <p:blipFill>
          <a:blip r:embed="rId1"/>
          <a:stretch/>
        </p:blipFill>
        <p:spPr>
          <a:xfrm>
            <a:off x="4591080" y="755640"/>
            <a:ext cx="3430440" cy="14749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4642920" y="3429000"/>
            <a:ext cx="336564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omic Sans MS"/>
              </a:rPr>
              <a:t>You can see them on summer mornings, followed by storm in the afternoon. We can found it between 10 000 m and 11 000 m of the earth. 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</p:txBody>
      </p:sp>
      <p:pic>
        <p:nvPicPr>
          <p:cNvPr id="354" name="Picture 2" descr="Fichier:Cirrocumulus to Altocumulus.JPG"/>
          <p:cNvPicPr/>
          <p:nvPr/>
        </p:nvPicPr>
        <p:blipFill>
          <a:blip r:embed="rId2"/>
          <a:srcRect l="26968" t="0" r="26968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55" name="ZoneTexte 4"/>
          <p:cNvSpPr/>
          <p:nvPr/>
        </p:nvSpPr>
        <p:spPr>
          <a:xfrm>
            <a:off x="4623120" y="5819760"/>
            <a:ext cx="34696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0080ff"/>
                </a:solidFill>
                <a:uFillTx/>
                <a:latin typeface="Century Gothic"/>
                <a:hlinkClick r:id="rId3"/>
              </a:rPr>
              <a:t>http://fr.wikipedia.org/wiki/Fichier:Cirrocumulus_to_Altocumulus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re 1" descr=""/>
          <p:cNvPicPr/>
          <p:nvPr/>
        </p:nvPicPr>
        <p:blipFill>
          <a:blip r:embed="rId1"/>
          <a:stretch/>
        </p:blipFill>
        <p:spPr>
          <a:xfrm>
            <a:off x="4578480" y="755640"/>
            <a:ext cx="3443040" cy="1474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Fichier:Close Cirrostratus stratiformis.JPG"/>
          <p:cNvPicPr/>
          <p:nvPr/>
        </p:nvPicPr>
        <p:blipFill>
          <a:blip r:embed="rId2"/>
          <a:srcRect l="27659" t="0" r="27659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716360" y="3429000"/>
            <a:ext cx="33004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omic Sans MS"/>
              </a:rPr>
              <a:t>This cloud produces precipitations. We can found it between 9 000m and 10 000 m of the earth.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</p:txBody>
      </p:sp>
      <p:sp>
        <p:nvSpPr>
          <p:cNvPr id="359" name="ZoneTexte 4"/>
          <p:cNvSpPr/>
          <p:nvPr/>
        </p:nvSpPr>
        <p:spPr>
          <a:xfrm>
            <a:off x="4593960" y="5805360"/>
            <a:ext cx="35182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0080ff"/>
                </a:solidFill>
                <a:uFillTx/>
                <a:latin typeface="Century Gothic"/>
                <a:hlinkClick r:id="rId3"/>
              </a:rPr>
              <a:t>http://fr.wikipedia.org/wiki/Fichier:Close_Cirrostratus_stratiformis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re 1" descr=""/>
          <p:cNvPicPr/>
          <p:nvPr/>
        </p:nvPicPr>
        <p:blipFill>
          <a:blip r:embed="rId1"/>
          <a:stretch/>
        </p:blipFill>
        <p:spPr>
          <a:xfrm>
            <a:off x="4535640" y="689040"/>
            <a:ext cx="3485880" cy="15476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716360" y="3068640"/>
            <a:ext cx="33004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omic Sans MS"/>
              </a:rPr>
              <a:t>He produces precipitations and the sky could be overcast. We can found it between 3000m and 5000m of the earth.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</p:txBody>
      </p:sp>
      <p:pic>
        <p:nvPicPr>
          <p:cNvPr id="362" name="Picture 2" descr="Fichier:Altocumulus1.jpg"/>
          <p:cNvPicPr/>
          <p:nvPr/>
        </p:nvPicPr>
        <p:blipFill>
          <a:blip r:embed="rId2"/>
          <a:srcRect l="26967" t="0" r="26967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63" name="ZoneTexte 4"/>
          <p:cNvSpPr/>
          <p:nvPr/>
        </p:nvSpPr>
        <p:spPr>
          <a:xfrm>
            <a:off x="4714920" y="5805360"/>
            <a:ext cx="338616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0080ff"/>
                </a:solidFill>
                <a:uFillTx/>
                <a:latin typeface="Century Gothic"/>
                <a:hlinkClick r:id="rId3"/>
              </a:rPr>
              <a:t>http://fr.wikipedia.org/wiki/Fichier:Altocumulus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re 1" descr=""/>
          <p:cNvPicPr/>
          <p:nvPr/>
        </p:nvPicPr>
        <p:blipFill>
          <a:blip r:embed="rId1"/>
          <a:stretch/>
        </p:blipFill>
        <p:spPr>
          <a:xfrm>
            <a:off x="4591080" y="689040"/>
            <a:ext cx="3430440" cy="14745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16360" y="3068640"/>
            <a:ext cx="33004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242"/>
                </a:solidFill>
                <a:latin typeface="Comic Sans MS"/>
              </a:rPr>
              <a:t>He causes precipitations. 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242"/>
                </a:solidFill>
                <a:latin typeface="Comic Sans MS"/>
              </a:rPr>
              <a:t>We can found it at 5000m of the earth.</a:t>
            </a:r>
            <a:endParaRPr b="0" lang="en-US" sz="1800" spc="-1" strike="noStrike">
              <a:solidFill>
                <a:srgbClr val="073e87"/>
              </a:solidFill>
              <a:latin typeface="Century Gothic"/>
            </a:endParaRPr>
          </a:p>
        </p:txBody>
      </p:sp>
      <p:pic>
        <p:nvPicPr>
          <p:cNvPr id="366" name="Picture 2" descr="Fichier:As 1.jpg"/>
          <p:cNvPicPr/>
          <p:nvPr/>
        </p:nvPicPr>
        <p:blipFill>
          <a:blip r:embed="rId2"/>
          <a:srcRect l="26968" t="0" r="26968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67" name="ZoneTexte 4"/>
          <p:cNvSpPr/>
          <p:nvPr/>
        </p:nvSpPr>
        <p:spPr>
          <a:xfrm>
            <a:off x="4643280" y="5830920"/>
            <a:ext cx="27370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0080ff"/>
                </a:solidFill>
                <a:uFillTx/>
                <a:latin typeface="Century Gothic"/>
                <a:hlinkClick r:id="rId3"/>
              </a:rPr>
              <a:t>http://fr.wikipedia.org/wiki/Fichier:As_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21:44Z</dcterms:created>
  <dc:creator>Anne</dc:creator>
  <dc:description/>
  <dc:language>en-US</dc:language>
  <cp:lastModifiedBy>stribym</cp:lastModifiedBy>
  <dcterms:modified xsi:type="dcterms:W3CDTF">2012-01-03T08:06:31Z</dcterms:modified>
  <cp:revision>49</cp:revision>
  <dc:subject/>
  <dc:title>Les nuages</dc:title>
</cp:coreProperties>
</file>